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DC0C-1F5B-42D5-B370-9D5ACD02F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B12C-1943-464A-8260-2869DE2EC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05C1-D1DE-406A-87E1-4B7BC0BF4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EA1E-1695-40BD-BB17-C5E1763FE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A9C45-7F86-4F25-894E-ADF0447DE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4CBD4-0B16-4ADE-8CCF-3B7D1DF6C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498E9-9337-4FE5-824B-B59C1ED35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86720-BEC3-45B6-92E9-E5FC5AFCA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DBDF6-41EF-4805-A713-5926D63D7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6AFF7-5712-4035-A8EC-63414C390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EBEEF-F1C8-492E-9681-18EC84B4D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86B6-150B-45DF-84E9-2F2E31D14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1D6AC-9BC9-4164-B9C9-72FEF4592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86CDA-07EB-461A-947E-F2FE34D88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12BA6-4346-4EAD-AA47-86BD5CD6F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3CF1A-1730-498C-A209-AF28619E0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FB7C8-A28E-4413-B2C9-63FC69439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9D53-CF6C-4C14-AB7C-57D912F1D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F8E2-2B37-4300-B244-BF91E87C9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F261-F010-47D2-B2D8-B701A3F58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1CC9-39B0-4B2A-A6F6-B9AD71D00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DE6F-2B9E-481D-9600-A4016FA6A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B06A-CCA4-42CD-B5B1-1182936C8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21A9-DA79-4A8B-BC2E-D4E73251D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C89D1-CA3F-4267-AB83-65C6D07840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E63D6-DC79-4483-89C3-EB93DCFF2A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freeplaymusic.com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eb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6705720" y="5105520"/>
            <a:ext cx="19047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553080" y="4495680"/>
            <a:ext cx="19051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/27/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r.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2133720" y="304920"/>
            <a:ext cx="3886200" cy="281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Harlow Solid Italic"/>
              </a:rPr>
              <a:t>Lear Jet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Harlow Solid Italic"/>
              <a:ea typeface="Harlow Solid Italic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33520" y="3962520"/>
            <a:ext cx="60195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usic: free play music,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apocalyspe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,5/7/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Times New Roman"/>
                <a:hlinkClick r:id="rId2"/>
              </a:rPr>
              <a:t>www.freeplaymusic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4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0407" fill="hold"/>
                                        <p:tgtEl>
                                          <p:spTgt spid="1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learbar" descr="Lear"/>
          <p:cNvPicPr/>
          <p:nvPr/>
        </p:nvPicPr>
        <p:blipFill>
          <a:blip r:embed="rId1"/>
          <a:stretch/>
        </p:blipFill>
        <p:spPr>
          <a:xfrm>
            <a:off x="457200" y="563400"/>
            <a:ext cx="6095880" cy="32464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4572000" y="4419720"/>
            <a:ext cx="4038480" cy="15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Impact"/>
              </a:rPr>
              <a:t>Lemelson MIT program, Lear jet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Impact"/>
              </a:rPr>
              <a:t>May,10,2010 </a:t>
            </a:r>
            <a:r>
              <a:rPr b="0" lang="en-US" sz="1800" spc="-1" strike="noStrike" u="sng">
                <a:solidFill>
                  <a:srgbClr val="ffffcc"/>
                </a:solidFill>
                <a:uFillTx/>
                <a:latin typeface="Impact"/>
                <a:hlinkClick r:id="rId2"/>
              </a:rPr>
              <a:t>http://web</a:t>
            </a:r>
            <a:r>
              <a:rPr b="0" lang="en-US" sz="1800" spc="-1" strike="noStrike">
                <a:solidFill>
                  <a:srgbClr val="ffffff"/>
                </a:solidFill>
                <a:latin typeface="Impact"/>
              </a:rPr>
              <a:t>. Mit . Edulinventliowlcolt 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Inventor William Lear</a:t>
            </a: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William was born in Missouri in 190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William attended a public school in Chicag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William was including induction into the International Aerospace hall of f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He join the navy at age 1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William Lear die in  1978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They made the Lear jet after his last name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362320" y="914400"/>
            <a:ext cx="510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ffff"/>
                </a:solidFill>
                <a:uFillTx/>
                <a:latin typeface="Tw Cen MT Condensed Extra Bold"/>
              </a:rPr>
              <a:t>Lear J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066680" y="2514600"/>
            <a:ext cx="746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w Cen MT Condensed Ex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w Cen MT Condensed Extra Bold"/>
              </a:rPr>
              <a:t>The Lear jet  is still use tod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066680" y="3352680"/>
            <a:ext cx="5105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w Cen MT Condensed Ex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w Cen MT Condensed Extra Bol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w Cen MT Condensed Extra Bold"/>
              </a:rPr>
              <a:t>The Lear jet was use in World War one</a:t>
            </a:r>
            <a:r>
              <a:rPr b="0" lang="en-US" sz="1800" spc="-1" strike="noStrike">
                <a:solidFill>
                  <a:srgbClr val="ffffff"/>
                </a:solidFill>
                <a:latin typeface="Tw Cen MT Condensed Extra Bol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447920" y="4343400"/>
            <a:ext cx="4647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w Cen MT Condensed Ex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w Cen MT Condensed Extra Bold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w Cen MT Condensed Extra Bold"/>
              </a:rPr>
              <a:t>the Lear jet takes a lot of fuel to run it and</a:t>
            </a:r>
            <a:r>
              <a:rPr b="1" lang="en-US" sz="1800" spc="-1" strike="noStrike">
                <a:solidFill>
                  <a:srgbClr val="ffffff"/>
                </a:solidFill>
                <a:latin typeface="Tw Cen MT Condensed Extra Bol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w Cen MT Condensed Extra Bold"/>
              </a:rPr>
              <a:t>every one hour they need to fuel it up again</a:t>
            </a:r>
            <a:r>
              <a:rPr b="1" lang="en-US" sz="1800" spc="-1" strike="noStrike">
                <a:solidFill>
                  <a:srgbClr val="ffffff"/>
                </a:solidFill>
                <a:latin typeface="Tw Cen MT Condensed Extra Bold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562720"/>
            <a:ext cx="4648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43000" y="5638680"/>
            <a:ext cx="4648320" cy="16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w Cen MT Condensed Ex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w Cen MT Condensed Extra Bold"/>
              </a:rPr>
              <a:t>The Lear jet is a very famous pla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w Cen MT Condensed Ex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7T17:39:48Z</dcterms:created>
  <dc:creator>install</dc:creator>
  <dc:description/>
  <dc:language>en-US</dc:language>
  <cp:lastModifiedBy>install</cp:lastModifiedBy>
  <dcterms:modified xsi:type="dcterms:W3CDTF">2010-05-12T17:41:34Z</dcterms:modified>
  <cp:revision>13</cp:revision>
  <dc:subject/>
  <dc:title>Slide 1</dc:title>
</cp:coreProperties>
</file>